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A5BE-24D1-41A3-929C-33FF5463D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A3A3-AA23-438D-9065-87EBD8D28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1A21-62E4-44C4-ABAB-3A607B1C5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69F9-82BB-46D2-B0BB-50A80C773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7722C-FD47-41FE-90CE-EE0C1825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DB8AE-DF0C-495D-B1D8-6F87BFF2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AA04-D520-40C0-8F2C-BE94608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FFAB-5D86-4830-8293-636BA04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521F2-3662-416F-8C9D-43205C1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E8F61-EF57-4E65-92E9-2DC43264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FD71D-BFCA-4DF0-8692-7A92012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DC4D-77F5-47C1-BA54-A351DE0E0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3F98F-0ADD-4DE4-9B9C-BAF7E0B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9BDA9-3E53-484B-9355-55C300E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0B75-DC24-4D81-BE47-77FF6FD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00E8-91E0-48D7-9BAA-7ACE1C53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3EE2-8036-4518-A256-9FE44B9A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37911-2DD5-4B57-8C3D-7FC6D43C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3EF36-B1F8-4DCF-BA9D-543619A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D2265-9FCB-49B3-A1EF-A803AA4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623C9-A1EE-43A8-BAFE-37734AE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9A35F-7831-4D96-81E0-8F7D4980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C13D-1DE0-4365-B188-3ACBFB02C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5733B-E14A-42F0-8A8F-D3749A2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66105-3DB4-4B4D-A4D0-1B4EC5B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E57B7-A834-4CE3-A17C-6EC1291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64D18-09AF-4021-BFE6-62F8D67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335DE-FA64-4B05-9E67-3A3927FD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1EA91-FAC0-434E-BBE7-E630E69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8EDFA-8812-4704-86C9-03456D51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A49E-8057-47A6-8E58-2F60A8CD7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4F48-B79A-4C6B-81AD-C05B3A767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676A-203D-4EC0-A0AA-54ED9389B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A9EE-F828-42E2-AFBC-2E3429F66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88AC-84FC-4093-9887-53E438401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9A70-E0B0-486D-A384-C289B7F18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CA2-9946-4025-8D51-3D0E1717D6FB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D726-777D-4758-BC8B-78BDAAEC1F19}" type="slidenum">
              <a:rPr b="0" lang="ru-RU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5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6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7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537-24F1-42CE-A9D7-42BA99560D25}" type="slidenum">
              <a:rPr b="0" lang="ru-RU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2.png"/><Relationship Id="rId44" Type="http://schemas.openxmlformats.org/officeDocument/2006/relationships/image" Target="../media/image13.png"/><Relationship Id="rId45" Type="http://schemas.openxmlformats.org/officeDocument/2006/relationships/image" Target="../media/image14.png"/><Relationship Id="rId46" Type="http://schemas.openxmlformats.org/officeDocument/2006/relationships/image" Target="../media/image15.png"/><Relationship Id="rId47" Type="http://schemas.openxmlformats.org/officeDocument/2006/relationships/image" Target="../media/image16.png"/><Relationship Id="rId4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424720" y="6281640"/>
            <a:ext cx="71928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12536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5"/>
                </a:solidFill>
                <a:latin typeface="Times New Roman"/>
              </a:rPr>
              <a:t>Основные итоги деятельности ГУП «Таттехмедфарм»</a:t>
            </a:r>
            <a:br>
              <a:rPr sz="4800"/>
            </a:br>
            <a:r>
              <a:rPr b="1" i="1" lang="en-US" sz="4800" spc="-1" strike="noStrike">
                <a:solidFill>
                  <a:srgbClr val="ffff05"/>
                </a:solidFill>
                <a:latin typeface="Times New Roman"/>
              </a:rPr>
              <a:t> в 2007г. и задачи на 2008г.</a:t>
            </a: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76000" y="5202000"/>
            <a:ext cx="655164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неральный директор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УП «Таттехмедфарм»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яз Ильясович Галиуллин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По программе ОНЛС (на 17.03.2008г.)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Поступило ЛС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146 845,7 тыс. руб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(368МНН, 781 ТН)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гружено со склада ГУП «Таттехмедфарм» -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104 006,5 тыс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пущено ЛС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 154 133 рец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76 381,1 тыс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Средняя стоимость 1 рецепта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95,6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В 2007г.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личество обращений на «горячую линию» - 35 948, в т.ч.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едеральных льготников – 34 287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гиональных льготников – 1 66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 наличии в аптеках ЛС и ИМН, входящих в федеральные и региональные льготные перечни – 32 976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 ЛС и ИМН, не вошедших в льготные перечни – 1 081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ращения граждан, не вошедших в фед.регистр -90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 правилах выписывания льготных рецептов – 116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 адресах и телефонах сторонних организаций – 887 и др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Безвозмездное лекарственное обеспечение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региональных льготник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В 2007 году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Выделено из средств бюджета РТ –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54 000,0 тыс. 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Отпущено за 12 месяцев 2007г. – на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92 051,6 тыс. 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Задолженность перед ГУП «Таттехмедфарм» на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01.01.2008г. составила -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9 650,8 тыс. 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Средняя стоимость 1 рецепта –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795,7 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46800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По состоянию на 17.03.2008г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Отпущено медикаментов –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74 582 рец. на 54 087,3 тыс.руб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о г.Казани - 23 651 рец. на 27 448,4 тыс. руб.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о г.Набережные Челны  - 8 703 рец. на 6 901,2 тыс. руб.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о районам РТ – 42 228 рец. на 19 737,6 тыс. руб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На гарантированном обеспечении по РТ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32 рец. на 737,3 тыс. 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Задолженность перед ГУП «Таттехмедфарм»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73 738,1 тыс.руб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74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267920"/>
            <a:ext cx="8915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личество производственных аптек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УП «Таттехмедфарм» в 2004-2007гг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о состоянию на 1 января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2708280"/>
          <a:ext cx="9144000" cy="33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08280"/>
                    <a:ext cx="91440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Число производственных аптек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ГУП «Таттехмедфарм»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(по состоянию на 1.01.2008г.)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Всего 50 аптек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г.Казани —  5,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г.Набережные Челны ― 7,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районах РТ —  3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Из них стерильно готовят 38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г.Казани —  3,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г.Набережные Челны ― 7,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районах РТ —  2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6329520"/>
            <a:ext cx="68436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6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реднемесячный объем экстемпоральной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цептуры по ГУП «Таттехмедфарм»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2007 год (количество единиц)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0" y="2276640"/>
          <a:ext cx="9144000" cy="41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91440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989000"/>
            <a:ext cx="868680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2007 году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бъем финансирования медицинских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учреждений -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2  560,0 млн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ступило денежных средств на сумму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 268,0 млн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тгружено медикаментов в ЛПУ на –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 329,0 млн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52012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Обеспечение учреждений РТ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по статье «Медикаменты»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Динамика количества аптек, работающих со справочной «003» в 2005-2007гг.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773360"/>
          <a:ext cx="794556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773360"/>
                    <a:ext cx="7945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Общая численность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сотрудников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ГУП «Таттехмедфарм»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 по состоянию на 01.01.2008г. составила 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-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2 030 человек</a:t>
            </a: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из них: 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404 - провизора 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645 - фармацевта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33"/>
                </a:solidFill>
                <a:uFillTx/>
                <a:latin typeface="Monotype Corsiva"/>
              </a:rPr>
              <a:t>Основные направления деятельности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33"/>
                </a:solidFill>
                <a:uFillTx/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66ff33"/>
                </a:solidFill>
                <a:uFillTx/>
                <a:latin typeface="Monotype Corsiva"/>
              </a:rPr>
              <a:t>ГУП «Таттехмедфарм» в 2007г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Дополнительное лекарственное обеспечение(ДЛО) федеральных льготников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Безвозмездное лекарственное обеспечение региональных льготников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Обеспечение медицинских учреждений РТ по 10 ст. «Медикаменты»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Участие в федеральных программах «Вакцинопрофилактика», «Сахарный диабет», «Неотложные меры по борьбе с туберкулезом в России»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Экстемпоральное (аптечное) изготовление лекарственных форм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Оборот наркотических, психотропных, ядовитых, сильнодействующих средств и спирта этилового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Розничная реализация ЛС и ИМН через государственную аптечную сеть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5"/>
                </a:solidFill>
                <a:latin typeface="Times New Roman"/>
              </a:rPr>
              <a:t>Справочно-информационная работа Республиканского центра фармацевтической информации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89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равнительный анализ средней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заработной платы в 2006-2007гг.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2133720"/>
          <a:ext cx="745668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133720"/>
                    <a:ext cx="74566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7629480" cy="1663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Структура  ГУП «Таттехмедфарм» (на 01.01.2008г.)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 аптечных склада (в г.Казани и г.Набережные Челны)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260 аптечных учреждений, в т.ч.: 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152 аптеки, в т.ч.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г.Казани —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36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г. Набережные Челны –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районах РТ —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103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, которые объединены в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 ЦРА 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самостоятельные апте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108 объектов мелкорозничной сети, в т.ч.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г.Казани —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 аптечных пунктов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г. Набережные Челны –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 аптечный пункт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в районах РТ — </a:t>
            </a:r>
            <a:r>
              <a:rPr b="1" lang="en-US" sz="2400" spc="-1" strike="noStrike">
                <a:solidFill>
                  <a:srgbClr val="99eff1"/>
                </a:solidFill>
                <a:latin typeface="Times New Roman"/>
              </a:rPr>
              <a:t>95</a:t>
            </a:r>
            <a:r>
              <a:rPr b="0" lang="en-US" sz="2400" spc="-1" strike="noStrike">
                <a:solidFill>
                  <a:srgbClr val="99eff1"/>
                </a:solidFill>
                <a:latin typeface="Times New Roman"/>
              </a:rPr>
              <a:t> аптечных пунктов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Республиканский центр фармацевтической информации (РЦФИ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В 2007г. в программе ДЛО участвовало –</a:t>
            </a:r>
            <a:r>
              <a:rPr b="1" lang="ru-RU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89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специализированных аптечных учреждений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ГУП «Таттехмедфарм»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В т.ч.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ff"/>
                </a:solidFill>
                <a:latin typeface="Times New Roman"/>
              </a:rPr>
              <a:t>в г.Казани –</a:t>
            </a:r>
            <a:r>
              <a:rPr b="1" i="1" lang="ru-RU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37</a:t>
            </a:r>
            <a:r>
              <a:rPr b="1" i="1" lang="ru-RU" sz="3200" spc="-1" strike="noStrike">
                <a:solidFill>
                  <a:srgbClr val="99ff33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ff"/>
                </a:solidFill>
                <a:latin typeface="Times New Roman"/>
              </a:rPr>
              <a:t>в г.Набережные Челны –</a:t>
            </a:r>
            <a:r>
              <a:rPr b="1" i="1" lang="ru-RU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i="1" lang="ru-RU" sz="3200" spc="-1" strike="noStrike">
                <a:solidFill>
                  <a:srgbClr val="99ff33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ff"/>
                </a:solidFill>
                <a:latin typeface="Times New Roman"/>
              </a:rPr>
              <a:t>в районах РТ –</a:t>
            </a:r>
            <a:r>
              <a:rPr b="1" i="1" lang="ru-RU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145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55640" y="1125360"/>
          <a:ext cx="7777080" cy="5664240"/>
        </p:xfrm>
        <a:graphic>
          <a:graphicData uri="http://schemas.openxmlformats.org/drawingml/2006/table">
            <a:tbl>
              <a:tblPr/>
              <a:tblGrid>
                <a:gridCol w="2765520"/>
                <a:gridCol w="2430360"/>
                <a:gridCol w="2581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тпущено ЛС фед.льготникам в 2006г. (млн. руб.)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лан на 2007г. 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млн. руб.)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январ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5,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2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рт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65,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47,8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3,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юл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67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вгуст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8,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62,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3,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17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1,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того за 12 месяцев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 703,8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19,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 среднем в месяц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42,0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9,9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2007г. на реализацию программы ДЛО в РТ Фондом ОМС  выделено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1 171,9 млн. руб.</a:t>
            </a:r>
            <a:r>
              <a:rPr b="1" lang="ru-RU" sz="2800" spc="-1" strike="noStrike" u="sng">
                <a:solidFill>
                  <a:srgbClr val="00ffff"/>
                </a:solidFill>
                <a:uFillTx/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В т. ч:</a:t>
            </a:r>
            <a:br>
              <a:rPr sz="2800"/>
            </a:b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Г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довая расчетная сумма финансировани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eff1"/>
                </a:solidFill>
                <a:latin typeface="Times New Roman"/>
              </a:rPr>
              <a:t> -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719,54 млн. руб.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т.е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59,96 млн. руб.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есяц.</a:t>
            </a:r>
            <a:br>
              <a:rPr sz="2400"/>
            </a:b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Дополнительная сумма финансирования (в июле 2007г.) -</a:t>
            </a:r>
            <a:r>
              <a:rPr b="1" lang="ru-RU" sz="24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452,4 млн. руб.</a:t>
            </a:r>
            <a:br>
              <a:rPr sz="2400"/>
            </a:br>
            <a:br>
              <a:rPr sz="2800"/>
            </a:b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Из средств бюджета РТ</a:t>
            </a:r>
            <a:r>
              <a:rPr b="1" lang="ru-RU" sz="28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дополнительно выделено</a:t>
            </a:r>
            <a:r>
              <a:rPr b="1" lang="ru-RU" sz="28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(в марте 2007г.)</a:t>
            </a:r>
            <a:r>
              <a:rPr b="1" lang="ru-RU" sz="28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– 60 млн. руб.</a:t>
            </a:r>
            <a:r>
              <a:rPr b="1" lang="ru-RU" sz="2800" spc="-1" strike="noStrike">
                <a:solidFill>
                  <a:srgbClr val="99eff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8459640" y="6329520"/>
            <a:ext cx="68436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6280"/>
            <a:ext cx="8820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20" y="1038240"/>
            <a:ext cx="53424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9640" y="0"/>
            <a:ext cx="6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6329520"/>
            <a:ext cx="68436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По результатам 2007г. :</a:t>
            </a:r>
            <a:endParaRPr b="0" lang="en-US" sz="36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Получено ЛС от ООО «Биотэк»</a:t>
            </a:r>
            <a:r>
              <a:rPr b="1" lang="ru-RU" sz="2600" spc="-1" strike="noStrike">
                <a:solidFill>
                  <a:srgbClr val="95ecf5"/>
                </a:solidFill>
                <a:latin typeface="Times New Roman"/>
              </a:rPr>
              <a:t> -</a:t>
            </a:r>
            <a:r>
              <a:rPr b="1" lang="ru-RU" sz="26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1 048 877,4 тыс. руб.</a:t>
            </a:r>
            <a:endParaRPr b="0" lang="en-US" sz="26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Отпущено ЛС</a:t>
            </a:r>
            <a:r>
              <a:rPr b="1" lang="ru-RU" sz="2600" spc="-1" strike="noStrike">
                <a:solidFill>
                  <a:srgbClr val="99eff1"/>
                </a:solidFill>
                <a:latin typeface="Times New Roman"/>
              </a:rPr>
              <a:t> – </a:t>
            </a: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по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1 079 859 рец.</a:t>
            </a:r>
            <a:r>
              <a:rPr b="1" lang="ru-RU" sz="26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на</a:t>
            </a:r>
            <a:r>
              <a:rPr b="1" lang="ru-RU" sz="2600" spc="-1" strike="noStrike">
                <a:solidFill>
                  <a:srgbClr val="99eff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1 105 956,5 тыс. руб.,</a:t>
            </a:r>
            <a:r>
              <a:rPr b="1" lang="ru-RU" sz="2600" spc="-1" strike="noStrike">
                <a:solidFill>
                  <a:srgbClr val="99eff1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eff1"/>
                </a:solidFill>
                <a:latin typeface="Times New Roman"/>
              </a:rPr>
              <a:t>в т.ч.:</a:t>
            </a:r>
            <a:endParaRPr b="0" lang="en-US" sz="24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из федерального товара — 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по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 069 511 рец.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на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 051 302,4 тыс. руб.</a:t>
            </a: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за счет средств предприятия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—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по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 229 рец.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на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0 086,3 тыс. руб.</a:t>
            </a: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за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счет региональных средств</a:t>
            </a:r>
            <a:r>
              <a:rPr b="1" lang="ru-RU" sz="2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по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5119 рец. </a:t>
            </a: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на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 44 567,8 тыс. руб.</a:t>
            </a: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Средняя стоимость 1-го рецепта</a:t>
            </a:r>
            <a:r>
              <a:rPr b="1" lang="ru-RU" sz="2600" spc="-1" strike="noStrike">
                <a:solidFill>
                  <a:srgbClr val="464646"/>
                </a:solidFill>
                <a:latin typeface="Times New Roman"/>
              </a:rPr>
              <a:t> —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1 024,2 руб.</a:t>
            </a:r>
            <a:endParaRPr b="0" lang="en-US" sz="26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ff00"/>
                </a:solidFill>
                <a:latin typeface="Times New Roman"/>
              </a:rPr>
              <a:t>Отпуск ЛС в расчете на 1-го фед. льготника по РТ:</a:t>
            </a:r>
            <a:endParaRPr b="0" lang="en-US" sz="26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на 1-го льготника, имеющего право на ДЛО –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6 151,8 руб.</a:t>
            </a: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ff"/>
                </a:solidFill>
                <a:latin typeface="Times New Roman"/>
              </a:rPr>
              <a:t>на 1-го льготника, воспользовавшегося льготами – 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9 960,8 руб.</a:t>
            </a: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 2008г. отпуск медикаментов дл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федеральных льготников осуществляют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78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аптечных учреждения,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 т.ч.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 г.Казани –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38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 г.Набережные Челны –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7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в районах РТ –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33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По 7-ми нозологиям (на 17.03.2008г.)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Поступило ЛС –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383 608, 1 тыс. руб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(17МНН, 27 ТН)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гружено со склада ГУП «Таттехмедфарм» 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209 811, 6 тыс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Отпущено всего ЛС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 1 671 рец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 120 209,3 тыс.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Средняя стоимость 1 рецепта 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71 938,5 руб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65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17080" y="6338880"/>
            <a:ext cx="826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46464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6:55:31Z</dcterms:created>
  <dc:creator>Эльза</dc:creator>
  <dc:description/>
  <dc:language>en-US</dc:language>
  <cp:lastModifiedBy>User</cp:lastModifiedBy>
  <dcterms:modified xsi:type="dcterms:W3CDTF">2008-03-18T13:30:21Z</dcterms:modified>
  <cp:revision>531</cp:revision>
  <dc:subject/>
  <dc:title>Презентация PowerPoint</dc:title>
</cp:coreProperties>
</file>